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2A0-8DB5-4F83-897A-4D6B09E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345-DF29-40D3-9403-E36CC3C7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290-B067-49FF-B719-A0ABBD0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3E3-EAFE-43A5-BA80-4D7D1A3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0FE2-2C46-4D66-A207-3BCA7D5D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F7C0-0977-4672-AF6E-70563A0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DF4-91A0-4B27-8B10-23040C7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448-EF03-4A6D-855C-BC695D7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77FB-E293-4932-8D56-FFEE551B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0B7-1411-4AE6-8ED8-DDFD856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CF77-94AF-46B5-AB6C-8C24B69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811-C0D2-422C-B8D8-1D9FC55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A420-3F89-427D-978E-554A147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CD73-4F12-4E34-AA33-99BCC32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AF1-C8F7-43BC-8086-FD321E09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8D1-DAD8-43D3-BEF4-4F3D6E6D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D76-6426-4821-86DE-55EFF527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63D-2C78-4707-8769-2EED76AD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745-645F-446C-9E09-8493DD3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21E-A931-4394-8CE6-10A1A04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B08-5563-4977-BCBA-5077A7FF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FD0-675C-45C1-9CCE-90D860E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557-2C03-431C-AAF1-CFD4388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F5A-0E75-4C13-8495-C4EC1CE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7EE-B2F5-47A5-A805-7B55A20A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E12-12D8-46CB-84E4-F81E7E2CD2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World War I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Great War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War to end all War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hot that rang throughout the world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71240"/>
            <a:ext cx="8461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. Assassination o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chduke Franci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rdin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ir to the Austrian thr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nt to Bosnia on a vis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avrilo Princip, member of Black hand (Serbian Nationalist grp) kill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Austria is mad!! = declares war on Serb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Russia backs up Serbia &amp; declares war on Austria = WAR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943600" y="781200"/>
            <a:ext cx="29750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ntral Pow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y, Austria- Hungary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 side of WWI that were member of the Triple Alliance; called this because of their central location in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y, Austria- Hungary, Ottoman Empire, Bulga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l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B, France, Russia, Japan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 side of WWI that were members of the Triple Ent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</a:t>
            </a: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GB, France, Russia, Japan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UROPE: 191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7" descr="eur1914"/>
          <p:cNvPicPr/>
          <p:nvPr/>
        </p:nvPicPr>
        <p:blipFill>
          <a:blip r:embed="rId1"/>
          <a:stretch/>
        </p:blipFill>
        <p:spPr>
          <a:xfrm>
            <a:off x="152280" y="1163520"/>
            <a:ext cx="87138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Germany’s War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uld not sustain a 2-front war, had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chlieffen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nock out France, then go get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 called for G to go thru Belgium, violating their neutrality (remember way back in 183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= which gave GB 2 reasons to go to war (attacking their ally &amp; Belgiu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lieffen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o: Germ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at: Germany’s strategic war plan &amp; battle strategy that called for attacking &amp; defeating France in the West then rushing East to get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ere: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y: felt they could wait to get Russia b.c. they lagged behind the rest of Europe &amp; would take longer to get to the front lines = mistak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774px-Schlieffen_Plan"/>
          <p:cNvPicPr/>
          <p:nvPr/>
        </p:nvPicPr>
        <p:blipFill>
          <a:blip r:embed="rId1"/>
          <a:stretch/>
        </p:blipFill>
        <p:spPr>
          <a:xfrm>
            <a:off x="457200" y="96840"/>
            <a:ext cx="84549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914 –1915 –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uros. Thought it would be a short war &amp; thought the boys would be home by Christm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r = stalemate, trench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stern front – French and Engl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stern front – Russi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stern Fro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Central Pwrs vs. All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deadlocked region in Northern France where most of the fighting wa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Northern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is where most the fighting took place in WWI; used Trench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nch Warfare (N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w type warfar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stern Fro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lines of defense, Revolution in firepower (Rifl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an’s Lan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5" descr="785px-Cheshire_Regiment_trench_Somme_1916"/>
          <p:cNvPicPr/>
          <p:nvPr/>
        </p:nvPicPr>
        <p:blipFill>
          <a:blip r:embed="rId1"/>
          <a:stretch/>
        </p:blipFill>
        <p:spPr>
          <a:xfrm>
            <a:off x="152280" y="13716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uses of WW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Rise of Nationalism- intense love of one’s nation led to competition among European nations agnst. Each othe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Imperialism &amp; Militarism- competition for overseas colonies &amp; Arms race: to be truly great you had to have a great powerful milit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stern Fro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685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s vs. Russi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region in the East on the German/Russian border where the fighting occur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/Russian bo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more mobile fighting, slaughter, &amp; stalemate than on the W. Front; The Russian army tied up thousands of German troops here keeping them from succeeding in the W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ffects of WW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New weapons such as…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b.c. of the Industrial Revolutio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New Weaponr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2" descr="c20e0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5587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olicy that would sink without any warning any ship in the waters around Brit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North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led to sinking the “Lusitania” that had 128 US citizens = US entered the war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57800" y="0"/>
            <a:ext cx="3602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ffects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Total war!! (NC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oted all their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time gov’ts took over Econom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ationing (NC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cription, or draf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poganda (N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men help with manufacturing war goods as the men were away fighting= women get to vote post-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atio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 &amp;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system on the homefront where people could only buy small amounts of goods that were needed for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throughout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covered a lot of goods from butter to shoe leather; people at home sacrificed luxuries for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 &amp;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-sided information used to persuade &amp; keep up morale for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all over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gov’ts suppressed anti-war activity, censored news, and used this to keep people from turning against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680" y="-152280"/>
            <a:ext cx="2776680" cy="405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103560" y="1312920"/>
            <a:ext cx="2687760" cy="403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6095880" y="2643120"/>
            <a:ext cx="290376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0" y="3780000"/>
            <a:ext cx="32767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,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war in which a country devotes all its’ resources to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all over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WWI was the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“total war”; Rationing, Propaganda, Women worked, Draf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effects…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 Post Traumatic Stress Syndrome – “shell shock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. Death &amp; Destruction never seen before: 8.5 million soldiers died, 21  million wounded, many civilians died (15% of youth= birthrates dow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6248520" y="219564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litar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Europe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policy of glorifying ones’ military power &amp; keeping an army prepared for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00-19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countries were in an Arms race: to be truly great you had to have a great powerful military- the country w. the greatest military &amp; arms = most powerful = this race =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9. Devastating economic impact: total cost $338 Million!! = Europe economically dependent on U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0. Destroyed farmland, villages, towns, &amp; homes (15,000 sq. miles F countryside ruined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yet… MORE effects…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1. Disillusionment of survivors = insecurity &amp; despair\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2. Treaties to end the war = anger &amp; resentment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ND… (of the war..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LD WAR ONE broke from the old world order that had been est. after Napoleonic wars and the Cong. Of Vien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gs us into the Modern Age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VITAL TO UNDERSTAND WWI, the causes, and the results-- IN ORDER TO UNDERSTAND WHY WWII HAPPENS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eace making 1918 - 1919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surrendered on November 11,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acemaking takes place in Paris, the Paris Peace Confer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 treaties are the result, all named after Parisian suburb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important – treaty of Versailles – Germany’s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ig F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egates at the conference 1918 - 1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odrow Wilson,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orges Clemenceau, 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ttorio Orlando, Ita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vid Lloyd George, Great Brit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ance’s goal: weaken Germany so that it could not become strong ag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sailles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US, GB, France vs.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compromise to end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Palace of Versailles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June 28, 191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League of Nations (N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ticle 231/War-guilt clause: German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end, did little to build lasting peace; instead, built bitterness &amp; betrayal = WWII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odrow Wil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President of the US, member of the Big F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wanted “Peace without Victors” – 14 points for achieving a just &amp; lasting pea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U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wanted to bring peace with 14 pts – BUT only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 was adopted &amp; he wasn’t allowed- US Congress wouldn’t let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urteen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Woodrow Wil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14 points of peace proposals, a plan to bring pe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Palace of Versailles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sought peace through-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cret treat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dom of the sea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trade, fix colon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 militar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nge borders &amp;create new nations based on Self-Determination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neral association of the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f-Determin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Woodrow Wil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guiding idea behind Wilson’s 14 pts; means- allowing people to decide for themselves under what gov’t they wished to li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was the guiding principle behind Wilson’s 14 points; wasn’t accepted by European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ance &amp; GB didn’t want to accept 14 pts.. Too concerned @ secu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ccepted the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: General association of the nations…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ka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uses (cont’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Tangled Alliance system-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owing rivalries among nations = allia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iances break up = new ones are m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iance system had been designed to keep Europe from going to war.. Instead pushes them into it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there’s 2 imp. Alliances that we end up with…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League of Na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B, France &amp; oth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based off Wilson’s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- an international association whose goal is to keep peace among the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Versailles Palace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9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ternational peace keeping org; this was created in the Treaty of Versailles- BU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wasn’t a part of 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dn’t include Germany or Russia= G mad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military to enfo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 – article 23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 Guilt: Germany forced to accept war guilt, said they were completely responsible for the war and dam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wed $33Billion to Allies = YOWZA! That’s a LOT!! = Debt = unhappiness = rise of “National Socialism” (aka Nazis.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s led t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s of Terri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litary Restri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r Guilt feelings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s of Terri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ave Alsace-Lorraine to 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ench border extended to Rhineland (industr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ves up ALL overseas territor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stria-Hungary &amp; Ottoman Empir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st land = Empires fell apart = new small independent nations f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ssia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d to leave b.c. Russian Revolution = lost land to surrounding countr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litary Restri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ust reduce size of military DRASTICAL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import or make weapons/war materi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build/buy submar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have air for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iple Alli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140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y, Austria-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act between the 3 to aid one another &amp; keep France from taking any of them o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y, Austria- 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879-188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e goal was to keep France isolated- this will become the Central Power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iple Ente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reat Britain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act between the 3 to guarantee they would not fight agnst one another in case a war broke o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B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0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it didn’t promise they would fight w. each other but promised they wouldn’t fight agsnt each other; this became the Allied power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lliance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ied Powers (Triple Entente) – Great Britain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ntral Powers (Triple Alliance) – Germany, Austria – 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kmanship – threaten war to get what you w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Y conflict in Europe could then make these 2 sides break out into war bc of the “alliances”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sues start arising, such as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. Crisis in the Balkans (NC from last time.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ionalism: they were trying to break away from Otto. Empire, some formed ind. N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guing over who should control where.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stria-Hungary tookover Bosnia- Herzegovina = Serbia MAD!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5:14:04Z</dcterms:created>
  <dc:creator>DCPS</dc:creator>
  <dc:description/>
  <dc:language>en-US</dc:language>
  <cp:lastModifiedBy>Windows User</cp:lastModifiedBy>
  <dcterms:modified xsi:type="dcterms:W3CDTF">2012-03-14T12:49:19Z</dcterms:modified>
  <cp:revision>45</cp:revision>
  <dc:subject/>
  <dc:title>WWI, Russian Revolution, and Peacemaking</dc:title>
</cp:coreProperties>
</file>